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9F8-A82A-4C00-BF19-210CD51A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fla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pre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ffective mechanism for moving a lot of information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us of our group is providing the database… not the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Billion rows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years worth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#2 under AQ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“owners” maintain thei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s can be performed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ndergoes a screening process before it is allowed into the system (data integrity &amp; statistical anomal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Registration is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90E-2AD1-4539-9A5B-75FCF232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536-648D-418B-BFF6-46A20347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52D-143C-4376-BDFB-58CBC0CF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A8D-DB5D-49A3-A337-18FB0F6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4C28-C97B-4948-BAA8-030A1DC5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C2D-A846-4CBE-83FF-E0A1B958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733E-4BC6-40CB-B4B8-B2F16E2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BFC-8B47-4122-B2AB-E83FD666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8C1-A8FD-4774-84A5-9052AC51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0B94-CB9A-4634-BE3D-BDE969E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3C2A-3C24-4513-A925-5C4159A2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807-A11D-48D2-9C00-ECD1A74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A35-6120-46F6-A26A-07D04B7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CD2-0ED8-49B1-8348-8A43D76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C85-3FDD-4B18-9743-F38C8E07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0D82-CE04-4657-A0D4-0FCABF7B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237A-2DF4-4838-806D-4407749B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103-5790-4EC7-9F78-15AC45D9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056-D88B-4F82-B522-F2058AF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3C1-4BE1-4C20-BB86-996FECF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B8F-A138-4AC4-A9C5-F721780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A3D-C78B-420E-84A9-3C4C640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1AB-9220-49E8-8CC9-5B25610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A0-34D1-429F-8BBD-49EA045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096B-AB75-4D67-A39F-1584B00880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2EA-357F-4749-A619-FD931D7BD1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Overvie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nathan Mil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AQPS – National Air Data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mag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77520" y="1905120"/>
            <a:ext cx="40892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2454 C 0.0698 -0.03518 0.01823 0.08079 0.01337 0.08079 C -0.09826 0.08843 -0.39479 0.02477 -0.53194 0.02361 C -0.60954 0.01968 -0.72048 0.0706 -0.75746 0.07477 C -0.75746 0.05347 -0.78489 0.04838 -0.78888 0.04838 C -0.79288 0.04838 -0.81215 0.05139 -0.81215 0.07153 C -0.81215 0.06088 -0.81371 0.05602 -0.81562 0.05602 C -0.81666 0.05602 -0.82256 0.06412 -0.82256 0.07477 C -0.82256 0.06945 -0.83454 0.0625 -0.83559 0.0625 C -0.83559 0.06111 -0.83767 0.06783 -0.83767 0.07315 C -0.83767 0.07037 -0.83767 0.06783 -0.83871 0.06783 C -0.83871 0.06921 -0.83975 0.0706 -0.83975 0.07315 C -0.83975 0.07176 -0.83975 0.07037 -0.83975 0.06921 C -0.8401 0.06852 -0.84131 0.06875 -0.84184 0.06921 C -0.84288 0.06921 -0.84288 0.0706 -0.84288 0.07199 E">
                                      <p:cBhvr>
                                        <p:cTn id="6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Data Avail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bient Air Quality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d Aver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d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ion &amp; B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 and Monitor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Q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Q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S/L/T to Enter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Updated Continuous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93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t Register to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Report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50,000 Reports /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Hoc Queries Available Through Oracle Discoverer (~15,000 Queries / Ye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QS DataM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ed for Researchers / Academia Qu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d from AQS Nightly (5x/week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Data 1980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n Exchange Network Node Accou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Web Services Avai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7:  5M Records Quer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Datastore for Other Applications (AirCompare &amp; RSI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457200"/>
            <a:ext cx="4647960" cy="1676520"/>
          </a:xfrm>
          <a:prstGeom prst="wedgeRoundRectCallout">
            <a:avLst>
              <a:gd name="adj1" fmla="val 50101"/>
              <a:gd name="adj2" fmla="val 730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much about data management, but I know what I ha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I don’t hate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5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5:59:05Z</dcterms:created>
  <dc:creator>jmille09</dc:creator>
  <dc:description/>
  <dc:language>en-US</dc:language>
  <cp:lastModifiedBy>jmille09</cp:lastModifiedBy>
  <dcterms:modified xsi:type="dcterms:W3CDTF">2008-02-12T12:39:24Z</dcterms:modified>
  <cp:revision>6</cp:revision>
  <dc:subject/>
  <dc:title>AQS Overview</dc:title>
</cp:coreProperties>
</file>